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CB7-35E7-4F55-B963-41A66EF9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4FF-0766-420A-AE94-206CEF0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9C5-0D32-42B8-ABBE-5C10CE6D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C5D-97F1-48D6-BF49-F2BAB853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CD8-8BA9-4D64-83EB-BC10DCD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CDE-114F-4CFC-836B-AE12A3C2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1E2-DAF1-4DDA-92D4-043A02AC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2FD-EFA2-42A8-AC9B-220E833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628-9265-4868-A3B3-3E5E8FC2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50F-4CB6-4C63-A042-064B83D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B7B-1A6F-4ED4-98B7-7CF20760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817-1014-4714-A316-DDE426E8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4697-496B-4A31-BE1B-AFCE2DDB8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se lines represen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otion will cause no change in potential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otion will cause the largest change in potential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733920" cy="27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429000" cy="311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800600"/>
            <a:ext cx="85345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mount of work done to move a proton from the 1V equipotential line to the 2V equipotential lin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it were an electr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lectron-Vo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not a unit of voltage!!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the amount of energy it takes to move one electron through a one volt difference in potential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76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on-volt is a very small unit of energy used for small atomic level energy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8006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572000"/>
            <a:ext cx="914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191120"/>
            <a:ext cx="17524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581280"/>
            <a:ext cx="312444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495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114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724280"/>
            <a:ext cx="38124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4495680"/>
            <a:ext cx="914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114800"/>
            <a:ext cx="17524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4495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419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3733920"/>
            <a:ext cx="25909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666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energy does it take to move an electron from level A to B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4:19:54Z</dcterms:created>
  <dc:creator> </dc:creator>
  <dc:description/>
  <dc:language>en-US</dc:language>
  <cp:lastModifiedBy>SOCSD</cp:lastModifiedBy>
  <dcterms:modified xsi:type="dcterms:W3CDTF">2009-02-26T13:19:20Z</dcterms:modified>
  <cp:revision>2</cp:revision>
  <dc:subject/>
  <dc:title>The Electron-Volt</dc:title>
</cp:coreProperties>
</file>